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076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608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372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608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372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076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00200" y="216000"/>
            <a:ext cx="7743600" cy="89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76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076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0200" y="216000"/>
            <a:ext cx="7743600" cy="193032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inting to Scale with MO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971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 uses Visual Basic 5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Map2 method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t to device coordin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43960" cy="83340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. Divide by ratio sca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1600200"/>
            <a:ext cx="579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wants ratio scale of     1 : 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978640"/>
            <a:ext cx="7743600" cy="155124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. Map extent rectangle in printer page inch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1055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de MapUnits in inches by 2,000,000, which g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Width = 3.54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Height = 5.23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7360"/>
            <a:ext cx="8382240" cy="82008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6. Extent rectangle in twip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y output rectangle dimensions by 1440 to convert the units into Tw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Width = 5101.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Height = 7533.9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283200"/>
            <a:ext cx="8382240" cy="82008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. Convert to pixe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de output rectangle dimensions by the device dependent “TwipsPerPixel” property to convert the units into pixels.  This printer for example has a DPI of 600, therefore, the TwipsPerPixel value is 2.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Width = 2125.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Height = 3139.1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00400" y="2286000"/>
            <a:ext cx="19810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3124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124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85640" y="28951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pUn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s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01120" y="327636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o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s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8440" y="28947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nt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92800" y="2815920"/>
            <a:ext cx="1252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S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reateab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58400"/>
            <a:ext cx="7743960" cy="91188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PrintToScale.dll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225800"/>
            <a:ext cx="7743960" cy="51552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bject:  PTS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3886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2080" y="3657240"/>
            <a:ext cx="28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eInchToUni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78080" y="2514240"/>
            <a:ext cx="25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pContro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s MO.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3434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21120"/>
            <a:ext cx="79455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to the MapObjects Developer Connection for this DL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full set of source code for all examples shown during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ation. http://www.esri.com/base/products/mapobjects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connection/modeveloperext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717120"/>
            <a:ext cx="7743960" cy="92412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ototype Projec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o “PrtToScale.vbp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 alone app that generates scale-based printing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e form module, all code attached to VB basic control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43600" cy="92376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de walk-thr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(1 of 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 the map units of your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et, meters, or D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t to in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4038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 the default pr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rmine page size in i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rmine twips per pix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43600" cy="92412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de walk-thru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2 of 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 the map ex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t ground units into in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vide by the ratio scale giv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mple math now that all are inch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ale rat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 extent in the disp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put page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21333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 to ensure scale chosen is not too large for the pag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vert output rectangle dimensions into device coordinates (pixel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termine the page lo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43600" cy="92376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ode walk-thru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3 of 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43960" cy="83340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cale printing “triangle”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438280"/>
            <a:ext cx="2514600" cy="1981440"/>
          </a:xfrm>
          <a:prstGeom prst="triangle">
            <a:avLst>
              <a:gd name="adj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760" y="4570920"/>
            <a:ext cx="84204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20280" y="4494600"/>
            <a:ext cx="13755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5280" y="1675440"/>
            <a:ext cx="247752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graphic 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19720" y="2209320"/>
            <a:ext cx="0" cy="22100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71440" y="3352680"/>
            <a:ext cx="2057400" cy="12193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429000"/>
            <a:ext cx="2133720" cy="11430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6840" y="5633640"/>
            <a:ext cx="71164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really only have control over two of these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you choose for two will determine the th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67760"/>
            <a:ext cx="7743960" cy="128916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easurement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vs. Device Depen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438280"/>
            <a:ext cx="2209680" cy="3810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h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r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438280"/>
            <a:ext cx="2210040" cy="3733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.g. printers and monito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895480"/>
            <a:ext cx="33526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8600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86000" y="3885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86000" y="3123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1640" y="1904040"/>
            <a:ext cx="237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5160" y="1904040"/>
            <a:ext cx="128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12760"/>
            <a:ext cx="7743960" cy="120024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low diagram of code f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ting to sca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715000"/>
            <a:ext cx="3124080" cy="609480"/>
          </a:xfrm>
          <a:prstGeom prst="parallelogram">
            <a:avLst>
              <a:gd name="adj" fmla="val 1281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map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676160" y="5105160"/>
            <a:ext cx="22860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4960" y="4647240"/>
            <a:ext cx="264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convert to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10080"/>
            <a:ext cx="2057400" cy="99072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4800600"/>
            <a:ext cx="1447920" cy="762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4040" y="4494600"/>
            <a:ext cx="25977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convert to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1120" y="3199320"/>
            <a:ext cx="25293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convert to tw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600200" y="4114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520" y="3198960"/>
            <a:ext cx="3106800" cy="825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map extent 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ground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676520" y="2209680"/>
            <a:ext cx="99036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1280" y="1751400"/>
            <a:ext cx="303048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divide by rati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19810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23480" y="1598760"/>
            <a:ext cx="3106800" cy="825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map extent 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ge i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10552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620120" y="5257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2209680"/>
            <a:ext cx="30456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562360" y="3581280"/>
            <a:ext cx="19810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93f98"/>
            </a:gs>
            <a:gs pos="100000">
              <a:srgbClr val="2b6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743960" cy="83340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. Map Unit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676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p control with MapLayer of New Jersey counties returns an Extent rectangle with the following properties, MapUnits in FE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Width = 590448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Height = 87198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16360"/>
            <a:ext cx="7743960" cy="820080"/>
          </a:xfrm>
          <a:prstGeom prst="rect">
            <a:avLst/>
          </a:prstGeom>
          <a:gradFill rotWithShape="0">
            <a:gsLst>
              <a:gs pos="0">
                <a:srgbClr val="2b6bff"/>
              </a:gs>
              <a:gs pos="100000">
                <a:srgbClr val="15357e"/>
              </a:gs>
            </a:gsLst>
            <a:lin ang="5400000"/>
          </a:gradFill>
          <a:ln w="12600">
            <a:solidFill>
              <a:srgbClr val="999999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, 3. Convert to Inc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5029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version so that MapUnits are now expressed in inch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Width = 70853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Height = 104638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7T11:12:52Z</dcterms:created>
  <dc:creator/>
  <dc:description/>
  <dc:language>en-US</dc:language>
  <cp:lastModifiedBy>ESRI User</cp:lastModifiedBy>
  <cp:lastPrinted>1998-03-09T19:15:27Z</cp:lastPrinted>
  <dcterms:modified xsi:type="dcterms:W3CDTF">1998-04-16T21:58:58Z</dcterms:modified>
  <cp:revision>30</cp:revision>
  <dc:subject/>
  <dc:title>Click to Edit Master Title Style</dc:title>
</cp:coreProperties>
</file>